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A33-D4B9-4615-88FE-8D784D87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C81-4504-4DE0-9B36-D365E61B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5FD-E13A-4FBA-A1F0-98A58E94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4EE-BC73-491F-BB0D-34B72ADD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D589-0C77-484B-977F-ABE66F1B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61A7-0336-4672-B1CF-395153D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DC6B-8FDD-4EF8-809A-FDEAE714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ADA3-B44B-4405-B3F1-569A5D26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A953-E77D-4A9E-835A-9E178630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1F2E-C306-4BEF-ADB2-AA688FE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F6D5-9D4C-4036-8C85-C63FAEB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CE9D-2320-4A02-A434-03AE066D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2CD5-0C9E-4EC6-9B64-6BB3713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8DBE-B76A-478A-AC4A-B06EF77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0D18-6393-454F-B7E4-4ABFD18E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8662-289B-4E94-BCB1-35904E2B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4D3C-E87E-4C83-8076-3308BD08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729-55EA-46DB-9B42-75BE3A86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999-86D0-494B-BD40-C4983B69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09E-5099-49F8-A5BE-19C4D10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3B9-AE30-4B60-B5F6-356AD73F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2BD3-62DC-4A13-8F8D-3107495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46B-1416-40C7-9566-6ED65056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8DB1-40E5-4CF3-B17D-C58A83C4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A8C6-5AAA-4486-B3BF-6FFC475C0A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7C22-A5EE-403B-8C1E-CE681E7E176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ahoma"/>
              </a:rPr>
              <a:t>Rounding Off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Find your numbe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Look right next door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4 or less, just ignore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5 or more, add one more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-228960"/>
            <a:ext cx="91440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925 –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whole numbe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159.485 –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hundredth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57 499 –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thousand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7.4899 -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o the nearest thousandt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58 225 –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 the nearest ten thousa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0"/>
            <a:ext cx="457200" cy="6858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62320" y="914400"/>
            <a:ext cx="380880" cy="6094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1828800"/>
            <a:ext cx="380880" cy="60948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819520"/>
            <a:ext cx="380880" cy="5331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3733920"/>
            <a:ext cx="380880" cy="53316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438280" y="4370400"/>
            <a:ext cx="4038840" cy="2487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04920" y="4427640"/>
            <a:ext cx="1828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swer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159.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7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7.49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6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9:59:25Z</dcterms:created>
  <dc:creator>admin</dc:creator>
  <dc:description/>
  <dc:language>en-US</dc:language>
  <cp:lastModifiedBy>admin</cp:lastModifiedBy>
  <dcterms:modified xsi:type="dcterms:W3CDTF">2007-11-19T21:21:24Z</dcterms:modified>
  <cp:revision>5</cp:revision>
  <dc:subject/>
  <dc:title>Rounding off </dc:title>
</cp:coreProperties>
</file>